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10D1503-0EDF-4C90-B7FE-0689619607B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6D292E0D-5F3B-44A1-B774-3A46EEFC01E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E799F390-36AB-41CA-9852-4ECE4275126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9699982C-3881-4958-B550-DD5C5D1B7D2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9DA33187-2CAE-4470-B331-60DA668CD3C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D0083D-A4CD-4EDA-B175-D5CE165DBDE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DA0E286E-9FED-48F7-91C2-B5AF57787B2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AC5F3B46-0F25-45C7-B4A6-155BFCE0C41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F0419A07-FC3A-4291-8AD1-8602961D76A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18DA75C-75E5-4CA7-AD03-AAB81E1E666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C9791DD-B52E-4706-8671-A5E9660239B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FAE5564-7F00-4ABA-B049-899A7997A7D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5269A0-6EAD-48F5-946C-0AF9E60699A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C81B5B-FCA1-4BAF-80BB-8F24E3598E5F}"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6128BD0-9E48-41C1-85C7-825A6ADDFFBC}"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7DBFF0A-9845-451F-A49E-B4215EB32520}"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BA54AAC-DC40-4AE7-89D8-E7C6F2629C4C}"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75EB99-0BDE-438B-A257-855D48519830}"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024F8A-E834-447F-9FB7-5694683B7326}"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323D1FA-74D9-4635-BFA2-1F6E5189C84B}"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E8DD95-C396-4418-A0AF-8C35FC25121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798DC8-919B-4C90-B788-E32DFA192CB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2D1CADF-6EB0-4900-ACDC-F41C8C9E395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552622-31BF-4BE8-BC6F-070C6D4BEBC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D2F085D-2337-4F3F-89FF-E94D9AF5F32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CCD820E-4E8D-40A7-878A-30AB1DDFBC8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979771D-4549-45C7-AAFB-4E5D8911591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E116E3-3CD4-4935-AF1E-7C775F61F92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09FC6C7-3DA4-4E07-8DF9-58046D93D34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26914BE-8146-4CFF-8F44-D933E663360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80DA01-CB91-4013-A728-2AB31064457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7EDDDD-F422-48D1-8301-FBECEF87258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CCBD09-1C84-4F28-97FA-447CEC626B4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9F559D8-1623-4429-AA36-79FCF26906B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B928797-316C-4F56-973F-829BFB05BB9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FA4628C-E56F-4ED0-BA1A-26AEFAB2850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B74D0C3-C56D-4872-8E56-5499790830C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D107F0-B92F-414A-BF5C-71951F2EB48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A32C7FC-641A-4763-9658-CC766E0F37B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FCC0CB0-7718-4EAD-8491-19E374B6C8D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F0A826-CE57-40A2-B263-FC53DB036B4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CB70C96-A7C5-49AE-9800-B5BB3299320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F98C73-7EC9-49F0-9423-049408A73AF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3A89820-FA69-493A-B386-946E67B88A0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DEB57EF-E4B8-40C9-A3E8-CF1ED4DB7BE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1552D62-5212-4BAD-A6DA-09DC25E33E0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8310EC-B693-40C6-A1AD-1EAD4555EC1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9A66090-5E39-426A-8723-B9114E546D4D}"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1545E7F-13F5-4AB7-B63E-E48F1BF0190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2FCF3C-BE04-45B5-82E9-A3ED92A05F92}"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76FAFE4E-6865-4692-92BF-232162C28D88}"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628359-A063-49CB-8A04-FB51337487F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A0CB6A-C574-4A77-9EEB-FD3DE5D58966}"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576C3C-9EB9-4009-AAB3-CEE1CD11C9AF}"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0CA093-BB4A-40C2-83A2-7CE94AEE89F3}"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4080F0C-88CB-4364-8AFD-1F70783986CD}"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8EA2AC-6C71-4228-AD33-7D187AE733BC}"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24CFEA-A5CC-432E-B6D7-5CFF649F12C9}"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44BF53-D29D-4E4E-B6F8-31F384DC60EA}"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6A31CE-5C4A-4FD6-BCAF-D38F28AF3DAF}"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719CB71C-9673-40CF-85BC-2BEEAD7BA742}"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227523B-4A7F-4CD6-86D6-8E6788C1BA17}"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7F8CC99-61CE-4FA0-A4CF-AE90F5FB4651}"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162407-EFAF-47DD-B0B6-BFFC1C9C558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15B0C9-F6FE-49FA-9348-5ED4FD99E819}"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A042209-83E8-4ACF-82FA-DCB89E3987F1}"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6693F3-2EC3-4A53-BEBD-00A5C2414CA7}"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748DB2-E64D-4B0C-99E4-431D3AFDB345}"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9F7A430-5D18-48DF-8682-B1F41DF0A257}"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D3378B-9658-4684-92AD-70B45DFA2B4F}"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9E87ED-86F4-4A4E-8ACE-8A7B2E7DC584}"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045A797E-7846-48FB-B48C-E83CDF8B13B4}"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AF37D5A-D2D1-4757-AB35-7487ED22B22A}"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6FF12D-5420-43B1-8FC8-C8E43FA96864}"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45A56E6-2B03-4C5B-96DB-2701FB1C8832}"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38BC97-CD05-470E-9A26-80C9921B7513}"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068725-2739-4F65-8948-17F56FF00D3F}"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EEC041-A36E-4970-B308-F6A095166C61}"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BD840D-A847-401A-A453-EAFB88B38FB6}"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A5C1799-3268-4C0D-8F98-FA7DC9D937AB}"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C1F624E-D5F0-4E3E-B66E-666563FF2231}"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465E71-6379-4CBA-B3D1-98D09ECF7E01}"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ED8EB3-5427-4775-B3D1-5A17E11DAEB7}"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0C434BA-A6F9-4E09-8ADF-24137F51BD7B}"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1719FF-700F-4F25-98D8-BF28BD95E3D0}"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F99C26-4C49-469A-8740-797CAFE34920}"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B6CBC15-6F70-4DBD-B808-6EC40AE4DBD9}"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7F15425-7F65-4B97-B082-E19B4C7EECF9}"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E008ECF-2C92-40B1-B610-4D5E818D8E49}"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6DEFEE-7716-49AB-8A96-62F22CABDA60}"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1F3E0E-C44D-4F13-8BD5-353B3429D791}"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1CCB8B-1137-45B2-A676-9EC56BA78A6C}"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57DE274-E6A2-4A79-8844-E6F16A11AD71}"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9D993A-4531-43CB-8C75-7E0A4CA4BB8D}"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100A05-ECD5-4EAD-8E32-C7FE6F9E26A6}"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22BE5D-94DA-4E2F-B2DD-9AACEBF16E2C}"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57D1E4-04BA-4937-AE0B-2C05FBFD3DED}"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B29ED32-FF0B-45E2-8892-361CAC137350}"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8D6596-E813-4A06-B2D6-47474CD2E854}"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472176-DE86-4799-9E9B-03C256578117}"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FF567CA-DFFA-4FBA-96FB-20F497862F0E}"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33CA06-19DD-4C0D-8129-3046C101793D}"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D57DDE6-006A-4E1B-884A-DB937F8AC71D}"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8BB949-77E3-4CFC-8E0C-8070D072406F}"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44183AF-882B-48F6-B5E1-C5549DC4A6B5}"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5FE735-417D-4C85-AB9B-F410338A5F7F}"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6A324E-B0C3-436D-8225-7F78A32D8CF0}"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49ED23D-AC79-4CCA-B50D-190F1DAD41D1}"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A6F43B-51E6-4128-A541-2F3EAF2731E8}"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7F12692-773C-4966-929C-D6DB9EE6D011}"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4393DD-E407-4C5E-9002-95DD9F5FDC92}"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7CF714-63C4-417C-8539-5E781A4BF31E}"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C780FEB-22C4-43CF-AF8B-C3418E923B3B}"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EB09A22-F447-4170-8765-9DA0F5979972}"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C0590D9-3965-4B5B-B5E4-F49E28DC5A06}"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7421B0-F2E2-4CFD-B59B-9840BBD9D54E}"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E817152-F5AA-48A3-BE99-011D47A60BD9}"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